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F53-EF8B-4362-99C4-C1B9C6F4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EF7-C1FC-49BB-9EE2-539A36EF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1C1-4396-46FA-9B8B-B0AD6C14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734-E965-4E0E-ACBD-7353C7A8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04BA-8473-47ED-8F7C-F6C7F52E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31C1-092B-442F-8B20-0770B5E8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DC1-0B29-4CD4-9C14-09570FEF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596-E9C8-461D-9E4A-CF9DB635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2E1E-0951-4424-9758-43029E9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DD2-5A71-406F-8713-3CA6AB5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45DE-F859-458F-8305-A081CD3F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650-2AF5-4118-AFB5-BF23B7A4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EBF3-6BE1-428D-AF9F-CF0AB7AE132C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6298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8000"/>
                </a:solidFill>
                <a:latin typeface="Arial"/>
              </a:rPr>
              <a:t>A Minha cidade</a:t>
            </a:r>
            <a:br>
              <a:rPr sz="4400"/>
            </a:br>
            <a:r>
              <a:rPr b="0" lang="pt-PT" sz="2400" spc="-1" strike="noStrike">
                <a:solidFill>
                  <a:srgbClr val="008000"/>
                </a:solidFill>
                <a:latin typeface="Arial"/>
              </a:rPr>
              <a:t>(My t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ORRES NO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é assi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rdim-Escola João de Deus de Torres Novas</a:t>
            </a: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orres Novas, cidade de Portugal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HERE ARE 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1468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rres Novas é uma cidade que se situa no distrito de Santarém, na província do Ribatejo, no centro de Portugal, a 120 Km da capital Lisb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3132000" cy="30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rdim-Escola João de Deus de Torres Novas</a:t>
            </a: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Estrutura da cidade de Torres Nova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WHAT HAS OUR 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co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o de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ros serviços públ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bl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3889440" cy="261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rdim-Escola João de Deus de Torres Novas</a:t>
            </a: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sta é a nossa escola…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HIS IS OU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 é a minha escola e é muito bonita, pois é nela que aprendo tudo aquilo que preciso para o meu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8920" y="4005360"/>
            <a:ext cx="2952720" cy="221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rdim-Escola João de Deus de Torres Novas</a:t>
            </a: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cc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m local lindíssimo…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 nosso Castelo.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OUR CAS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 além de lindíssimo, o castelo foi o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al culpado de a nossa cidade se cha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rres Nova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er em história de Torres Nova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321300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rdim-Escola João de Deus de Torres Novas</a:t>
            </a: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 nosso Jardim no Castelo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UR GARDEN IN THE CAS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3068640"/>
            <a:ext cx="42559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 dos Jardins mais bonitos da cidade de Torres Novas situa-se no centro do caste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16360" y="2708280"/>
            <a:ext cx="4176720" cy="27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rdim-Escola João de Deus de Torres Novas</a:t>
            </a: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20:49Z</dcterms:created>
  <dc:creator>JD1</dc:creator>
  <dc:description/>
  <dc:language>en-US</dc:language>
  <cp:lastModifiedBy>dora</cp:lastModifiedBy>
  <dcterms:modified xsi:type="dcterms:W3CDTF">2008-11-22T15:46:56Z</dcterms:modified>
  <cp:revision>5</cp:revision>
  <dc:subject/>
  <dc:title>A Minha cidade</dc:title>
</cp:coreProperties>
</file>