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E74-97FE-4652-AC8C-3BBFE14C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BCE-1C58-42FF-A020-C826D19E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5F6-6491-45E5-84F7-6896D856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288A-354A-471D-90BE-6FEB81F6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716-7D00-46F1-8FFC-9B304A8B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3ED7-1901-42EA-BF46-2382C3AA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E16-AEA1-4C0D-BC6F-BEDDC650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3863-2E86-4933-A32F-589ABF4E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8586-474A-4187-B1BB-16352949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955-911B-43AC-A4F7-7FB51200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CF0-5011-4A74-ACBF-B089B531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C636-B57D-44AA-AC01-7DA2B317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CAE6-5C54-4B12-B807-8C409103B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Greetings to Everybod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35932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Bibe encarnado 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(4year ol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Bibe Amarelo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(3  year ol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DSC05255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o our  Comenius Friends!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Bibe Azul and  Bibe Verde 2nd year – 1º cic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DSC05256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51" name="DSC05258" descr=""/>
          <p:cNvPicPr/>
          <p:nvPr/>
        </p:nvPicPr>
        <p:blipFill>
          <a:blip r:embed="rId2"/>
          <a:stretch/>
        </p:blipFill>
        <p:spPr>
          <a:xfrm>
            <a:off x="4572000" y="25909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480" y="47242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Bibe Azul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 5 year old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5638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urkey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we said -“Happy New Year”  made by 2nd year ( 1º cicl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e sent Greetings to  all our Comenius friends</a:t>
            </a:r>
            <a:br>
              <a:rPr sz="2800"/>
            </a:b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(made by 1º Cicl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DSC05261" descr=""/>
          <p:cNvPicPr/>
          <p:nvPr/>
        </p:nvPicPr>
        <p:blipFill>
          <a:blip r:embed="rId1"/>
          <a:stretch/>
        </p:blipFill>
        <p:spPr>
          <a:xfrm>
            <a:off x="5257800" y="15238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56" name="DSC05262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3657600" cy="2495520"/>
          </a:xfrm>
          <a:prstGeom prst="rect">
            <a:avLst/>
          </a:prstGeom>
          <a:ln w="0">
            <a:noFill/>
          </a:ln>
        </p:spPr>
      </p:pic>
      <p:pic>
        <p:nvPicPr>
          <p:cNvPr id="57" name="DSC05263" descr=""/>
          <p:cNvPicPr/>
          <p:nvPr/>
        </p:nvPicPr>
        <p:blipFill>
          <a:blip r:embed="rId3"/>
          <a:stretch/>
        </p:blipFill>
        <p:spPr>
          <a:xfrm>
            <a:off x="990720" y="4572000"/>
            <a:ext cx="2895480" cy="1943280"/>
          </a:xfrm>
          <a:prstGeom prst="rect">
            <a:avLst/>
          </a:prstGeom>
          <a:ln w="0">
            <a:noFill/>
          </a:ln>
        </p:spPr>
      </p:pic>
      <p:pic>
        <p:nvPicPr>
          <p:cNvPr id="58" name="DSC05250" descr=""/>
          <p:cNvPicPr/>
          <p:nvPr/>
        </p:nvPicPr>
        <p:blipFill>
          <a:blip r:embed="rId4"/>
          <a:stretch/>
        </p:blipFill>
        <p:spPr>
          <a:xfrm>
            <a:off x="533520" y="1447920"/>
            <a:ext cx="3962160" cy="2971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41911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Bibe Azul – 4th y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63403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Bibe Castanho – 1st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00800" y="35812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Bibe azul  - 3rd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2:54:03Z</dcterms:created>
  <dc:creator>utilizador</dc:creator>
  <dc:description/>
  <dc:language>en-US</dc:language>
  <cp:lastModifiedBy>user66</cp:lastModifiedBy>
  <dcterms:modified xsi:type="dcterms:W3CDTF">2009-04-13T13:47:3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